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038-B539-421A-8088-E192214F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0BA-D1B0-46A9-9BAE-DDBFD10F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135-1CBC-4465-9A15-75561A8F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F68-6447-4010-9759-87FD4BD0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EE9F-358A-46BD-856D-6C37421D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CCA8-3C00-4942-AFAF-8D2F559D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40A3-EC70-439A-A18E-64DC3AF5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AED7-2942-4DE9-B756-19C4B20A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513F-8890-4CF3-AC31-A13F502F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8F9A-5E9A-4779-84BD-43704637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3293-531B-4C41-AE12-BD38A4D8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DEF-2B1C-4AAE-9488-9754AB20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27C0-B394-44F3-B04A-1C21230B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82F1-EC44-4803-A803-BF2E371E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7E8B-4ED2-4C15-9E0E-1EB39399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4E68-8D36-4623-A4E8-99A1B573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754E-DFDD-42D0-BCFF-1B6067DB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647A-7711-4CD4-99FA-3D2A846E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448-A96E-4F9C-BA3A-973B5D33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85E-1932-4E0C-A078-DDC908A6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7BF-90FE-440F-A3A9-EE7CF8B8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579-6596-4782-A03E-D3D52FDB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3EA-8131-46AF-8245-8BCA9C1D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B404-6DE4-4355-95C8-675EF31C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A624-D216-4D32-9AB1-4D0B97F98A43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9D75-6F34-438B-B94A-09653984B943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ional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28600" y="2590920"/>
                <a:ext cx="849168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3-18 (multiples of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9-29 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order to clear the fract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every term by the LCD (least common denomin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lears the denominators and leaves you with the new nume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tri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check to see if there are any restric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209680" y="2819520"/>
                <a:ext cx="39052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1776240" y="2819520"/>
                <a:ext cx="477396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1219320" y="2819520"/>
                <a:ext cx="588960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994040" y="2819520"/>
                <a:ext cx="434016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1095480" y="2819520"/>
                <a:ext cx="613872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28600" y="2438280"/>
                <a:ext cx="849456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5:17:53Z</dcterms:created>
  <dc:creator>Parkland High School</dc:creator>
  <dc:description/>
  <dc:language>en-US</dc:language>
  <cp:lastModifiedBy>test</cp:lastModifiedBy>
  <dcterms:modified xsi:type="dcterms:W3CDTF">2015-05-08T12:04:26Z</dcterms:modified>
  <cp:revision>2</cp:revision>
  <dc:subject/>
  <dc:title>Rational Equations</dc:title>
</cp:coreProperties>
</file>